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DD75-31A6-4786-B6FD-DB27244C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47A3-0D90-4949-A650-1052A50A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50E7-6A38-47F0-9405-AFE0E9DC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54E5-A7CC-4504-8469-32A4D42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DAF1-6D40-455D-B58B-2FFDE1C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D929-C147-47F4-B27F-C347D73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4A9D-48C9-491B-8AAC-DDC0FA4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A2C5-9E00-415D-8ACD-EA7E307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A62-4DAF-4F2A-B068-8F3C2085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B3A2-535D-4382-95B2-548B6253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0017-96BC-4A7D-899D-D3A7AAD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00A9-691D-4BBB-9C29-7C7EDAC9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D02-53F3-408F-B21C-EEC8F73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AC5B-3BB0-4DC5-AA0E-A603D1C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4ED1-8CE4-4596-9689-0C88B772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8D23-4713-4C37-9087-6D9EBDF1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46BE-0660-41C1-BC82-9B54CD13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6E01-DED3-4056-A75B-2F1A5409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A190-82B6-4170-85FE-B4F7A1A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C2B2-E21D-41DC-BB51-F53040D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67C9-9AA7-40D8-8822-8545926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4A92-3920-45A8-9BFB-65A1382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1589-1A61-4520-B3DE-37177B6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DF92-2BD1-469A-9613-BD8C778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5B5-F5F8-4F52-BA20-91982BA31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641D-F832-4751-A20B-E82DEEFC3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304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Garamond"/>
              </a:rPr>
              <a:t>General Safet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Foundations of Engineering and Technology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Up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LWAYS CLEAN UP THE LABORATORY BEFORE YOU LEAVE!!!!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An unplanned event that may or may not result in an injur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6920"/>
            <a:ext cx="815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Garamond"/>
              </a:rPr>
              <a:t>What is an Accident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2517840"/>
            <a:ext cx="58676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SES OF ACCID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0% of accidents are caused by human erro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0% of accidents are caused by unsafe conditions in the surround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3886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1444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ye Prot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fety G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ye Glass Side Sh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gg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ll Face Sh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1504800" cy="119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248520" y="5181480"/>
            <a:ext cx="2333520" cy="1257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09480" y="4724280"/>
            <a:ext cx="315288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38480" y="4267080"/>
            <a:ext cx="1828800" cy="2305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1905120"/>
            <a:ext cx="41148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ALWAYS WEAR EYE PROTECTION WHEN WORKING IN THE LABORATOR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inspect a tool before you use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re is a damaged switch or cord on a power tool report it to your teacher immediately so that the tool can be put up for repai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touch a power tool if it is moving, wait until it comes to a complete sto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use the tool for it’s proper fun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Using Power Tools in the Laboratory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get permission from the teacher before you use the machin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talk to another student or the instructor while he/she is operating the machin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using the machinery stand only in the “Operator Zone” or the area where only the machinery operator should st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ways unplug a power tool by the plug not the co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ach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ill Press – When cutting holes make sure the material is secured in a Vise or Gripping Tool.  Never hold the materi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nd Saw – Use the guide to push material through the blade and keep your hands from the blade.  Never force material, forcing means you are trying too hard and could bin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roll Saw – Move material slowly, keep your hand away from the blad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ander – Hold material firmly, always move against the sp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162920" y="1600200"/>
            <a:ext cx="100944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70680" y="3352680"/>
            <a:ext cx="1273320" cy="185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629400" y="5181480"/>
            <a:ext cx="1660680" cy="1382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553080" y="3505320"/>
            <a:ext cx="12034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When in the Laboratory…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Laboratory is a dangerous place if you are not caref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Horse Pl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Operate the machinery without checking with the teac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se hair should be tied up, clothing tucked in, jewelry taken off, and long sleeves rolled u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an accident should happen contact the teacher immedi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aterial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nt, enamel, lacquer, or solvents must not be used near flames or sparks because they are flamm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flammable materials in the metal cabin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leave material lying around someone could get cut, slip, or fa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t metal placed in water can cause the water to be hot enough to burn some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04:43:59Z</dcterms:created>
  <dc:creator>Bobby  Joslin</dc:creator>
  <dc:description/>
  <dc:language>en-US</dc:language>
  <cp:lastModifiedBy>Katherine</cp:lastModifiedBy>
  <dcterms:modified xsi:type="dcterms:W3CDTF">2008-06-30T14:42:25Z</dcterms:modified>
  <cp:revision>10</cp:revision>
  <dc:subject/>
  <dc:title>ACCIDENT</dc:title>
</cp:coreProperties>
</file>